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sthe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Wasserante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m Uri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3600" y="5493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sthe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4" idx="3"/>
            <a:endCxn id="105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sserante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Uri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2880" y="549360"/>
            <a:ext cx="44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sthe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Wasseranteil im Uri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35:48Z</dcterms:modified>
  <cp:revision>326</cp:revision>
  <dc:subject/>
  <dc:title>Vorstellung einer Neuheit</dc:title>
</cp:coreProperties>
</file>